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0B3-1E6C-4DDC-A637-AD386FDC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EEC-D871-4F26-96DB-A8B3FEC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CD1-FEEA-4445-8C5B-2C2C2DE2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8A1-B5FA-403C-8793-44B754F7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20F-E96D-47BB-B262-8B3FC146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D4A-A645-4886-A95D-8E769B4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530-6D91-4EAA-B0EA-0C85A7F0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FD4-49A8-4F52-9854-B72598B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012-C9D0-45FF-824F-6D656E8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2DD-A44B-4879-ABEE-E0913C5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04B-0DC8-4FC1-9BDE-BB94106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53B-A405-4A50-A678-A162CFD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197-2E63-4C99-8B6A-AF677538E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16.226.178.196/cdm4/results.php?CISORESTMP=results.php&amp;CISOVIEWTMP=item_viewer.php&amp;CISOMODE=grid&amp;CISOGRID=thumbnail,A,1;title,A,1;subjec,A,0;descri,200,0;none,A,0;20;cdnum,none,none,none,none&amp;CISOBIB=cdnum,A,1,N;file,A,0,N;qfile,200,0,N;none,A,0,N;none,A,0,N;20;cdnum,none,none,none,none&amp;CISOTHUMB=20%20(4x5);cdnum,none,none,none,none&amp;CISOTITLE=20;cdnum,none,none,none,none&amp;CISOHIERA=20;file,cdnum,none,none,none&amp;CISOSUPPRESS=1&amp;CISOTYPE=link&amp;CISOOP1=all&amp;CISOFIELD1=cdnum&amp;CISOBOX1=&amp;CISOOP2=all&amp;CISOFIELD2=file&amp;CISOBOX2=&amp;CISOOP3=all&amp;CISOFIELD3=fila&amp;CISOBOX3=&amp;CISOOP4=all&amp;CISOFIELD4=CISOSEARCHALL&amp;CISOBOX4=selma+montgomery+march+civil&amp;c=all&amp;CISOROOT=%2Fphoto%22=%22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groartist.com/civil%20rights%20imagery/images/Black%20civil%20rights%20demonstrator%20attacked%20by%20a%20dog%20in%20Birmingham,%20Alabama%201963_jpg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We Must Die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laude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5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far outnumbered let us show us brav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86520" cy="471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heir thousand blows deal one death-b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267080" cy="300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2975040"/>
            <a:ext cx="3581280" cy="334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ough before us lies the open grav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en we’ll face the murderous, cowardly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7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ed to the wall, dying, but fighting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362400" cy="21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362400" cy="212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berly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a Bill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rick Kimb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304920"/>
          <a:ext cx="8153280" cy="5863320"/>
        </p:xfrm>
        <a:graphic>
          <a:graphicData uri="http://schemas.openxmlformats.org/drawingml/2006/table">
            <a:tbl>
              <a:tblPr/>
              <a:tblGrid>
                <a:gridCol w="216000"/>
                <a:gridCol w="7937280"/>
              </a:tblGrid>
              <a:tr h="58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we must die, let it not be like ho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ed and penned in an inglorious spot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round us bark the mad and hungry dogs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their mock at our accursèd lot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we must die, O let us nobly die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our precious blood may not be 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vain; then even the monsters we def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 be constrained to honor us though dead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kinsmen! we must meet the common foe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 far outnumbered let us show us brave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for their thousand blows deal one death-blow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hough before us lies the open grave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men we'll face the murderous, cowardly pack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ed to the wall, dying, but fighting back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y Sunday, March 7,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elma To Montgom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must die, let it not be like ho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ed and penned in an inglorious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round us bark the mad and hungry dog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ir mock at our accursed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861048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must die, O let us nobly di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our precious blood may not be sh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ain then even the monsters we de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15328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be constrained to honor us though dead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, kinsmen! We must meet the common f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7T05:20:21Z</dcterms:created>
  <dc:creator>Angela L Jones</dc:creator>
  <dc:description/>
  <dc:language>en-US</dc:language>
  <cp:lastModifiedBy>Angela L Jones</cp:lastModifiedBy>
  <dcterms:modified xsi:type="dcterms:W3CDTF">2010-07-17T06:32:53Z</dcterms:modified>
  <cp:revision>3</cp:revision>
  <dc:subject/>
  <dc:title>“If We Must Die”</dc:title>
</cp:coreProperties>
</file>